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jeop.wav" ContentType="audio/x-wav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3EA6-010E-483E-8DA3-57DA9AF72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481F-AA38-491F-B19B-FA85151D9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B8A0-6D6B-4E01-A2F1-9FB855410F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7D2-F9B3-4D02-9584-75B6DA3D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47A-DEFD-4D8C-A286-77953E10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5D2-5DBD-46C0-9AE9-C5C790F6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53F-9675-4B65-BB05-00387DA7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C59E-29AD-4B1F-8120-5E24BB92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F6F0-B759-4D43-B64A-CF50F8C3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60A3-6714-48A3-916D-6B0C89C9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8D2A-0474-4C0C-8C46-678ED041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2CD6-71A9-4D45-B943-55310DE8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1677-C479-4A58-B9D3-521D20C2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62CA-097C-459E-8C04-F44F7F10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371-89DA-4E22-AD7E-C458419F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D510-6625-47B0-B6FB-B130B685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9DA3-7BBC-4B70-B625-A3A50DD7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96E4-AB01-4FE8-A526-F8D8F2B5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5FAD-AAC3-40F8-8EE7-51F43704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2410-7AFC-47DB-BBD3-B9639CAD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582B-68BA-4D23-955F-2DFAE393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321-4FE9-4B17-A572-50CC8275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E55-3E96-4A2E-9981-E515E629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56C-78A3-454C-9D41-CB397963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78D-FBCF-401F-BA41-100D0CF4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078-9805-40FA-AE2B-2AFDDE21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F71-F160-48CD-8D21-34487B31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0AA6-960A-4A67-B3C9-AEE19C067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D654-41F7-41EE-B904-072E391DF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slide" Target="slide25.xml"/><Relationship Id="rId14" Type="http://schemas.openxmlformats.org/officeDocument/2006/relationships/slide" Target="slide35.xml"/><Relationship Id="rId15" Type="http://schemas.openxmlformats.org/officeDocument/2006/relationships/slide" Target="slide45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47.xml"/><Relationship Id="rId20" Type="http://schemas.openxmlformats.org/officeDocument/2006/relationships/slide" Target="slide19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21.xml"/><Relationship Id="rId25" Type="http://schemas.openxmlformats.org/officeDocument/2006/relationships/slide" Target="slide31.xml"/><Relationship Id="rId26" Type="http://schemas.openxmlformats.org/officeDocument/2006/relationships/slide" Target="slide41.xml"/><Relationship Id="rId27" Type="http://schemas.openxmlformats.org/officeDocument/2006/relationships/slide" Target="slide51.xml"/><Relationship Id="rId28" Type="http://schemas.openxmlformats.org/officeDocument/2006/relationships/slide" Target="slide53.xml"/><Relationship Id="rId29" Type="http://schemas.openxmlformats.org/officeDocument/2006/relationships/image" Target="../media/image2.png"/><Relationship Id="rId30" Type="http://schemas.openxmlformats.org/officeDocument/2006/relationships/audio" Target="../media/jeop.wav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slide" Target="slide25.xml"/><Relationship Id="rId14" Type="http://schemas.openxmlformats.org/officeDocument/2006/relationships/slide" Target="slide35.xml"/><Relationship Id="rId15" Type="http://schemas.openxmlformats.org/officeDocument/2006/relationships/slide" Target="slide45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47.xml"/><Relationship Id="rId20" Type="http://schemas.openxmlformats.org/officeDocument/2006/relationships/slide" Target="slide19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21.xml"/><Relationship Id="rId25" Type="http://schemas.openxmlformats.org/officeDocument/2006/relationships/slide" Target="slide31.xml"/><Relationship Id="rId26" Type="http://schemas.openxmlformats.org/officeDocument/2006/relationships/slide" Target="slide41.xml"/><Relationship Id="rId27" Type="http://schemas.openxmlformats.org/officeDocument/2006/relationships/slide" Target="slide51.xml"/><Relationship Id="rId28" Type="http://schemas.openxmlformats.org/officeDocument/2006/relationships/image" Target="../media/image2.png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3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jeop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Star-Spangled Banner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4040" y="1547640"/>
          <a:ext cx="7650000" cy="46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040" y="1547640"/>
                    <a:ext cx="765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1139760" y="1676520"/>
            <a:ext cx="9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Ly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115520" y="1676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701028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tiquet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14516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14516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14516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114516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114516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59308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564084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411696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701244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259308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411696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564084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708876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259308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411696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564084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708876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259308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8"/>
          <p:cNvSpPr/>
          <p:nvPr/>
        </p:nvSpPr>
        <p:spPr>
          <a:xfrm>
            <a:off x="411696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564084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708876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259308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411696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564084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708876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8"/>
          <p:cNvSpPr/>
          <p:nvPr/>
        </p:nvSpPr>
        <p:spPr>
          <a:xfrm>
            <a:off x="5563440" y="16765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Text Box 47"/>
          <p:cNvGrpSpPr/>
          <p:nvPr/>
        </p:nvGrpSpPr>
        <p:grpSpPr>
          <a:xfrm>
            <a:off x="7364520" y="6297480"/>
            <a:ext cx="1646280" cy="414360"/>
            <a:chOff x="7364520" y="6297480"/>
            <a:chExt cx="1646280" cy="414360"/>
          </a:xfrm>
        </p:grpSpPr>
        <p:pic>
          <p:nvPicPr>
            <p:cNvPr id="141" name="Text Box 47" descr="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7364520" y="6297480"/>
              <a:ext cx="16462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391520" y="6324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Final Jeopar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9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Answer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80880" y="297180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“by the dawn’s early light,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09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Question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914400" y="2971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’er the ramparts we watched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Answer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371600" y="266688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“were so gallantly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eaming?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16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447920" y="2057400"/>
            <a:ext cx="6324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lig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: da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nse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time betw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nset and da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396440" y="2666880"/>
            <a:ext cx="602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the time betw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tween sunset and dar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23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219320" y="2286000"/>
            <a:ext cx="6705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w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: nig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ginning of d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fterno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143000" y="289548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the beginning of da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30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133720" y="2438280"/>
            <a:ext cx="5105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llant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: sad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rave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ppi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2379240" y="2895480"/>
            <a:ext cx="41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brave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37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295280" y="2057400"/>
            <a:ext cx="693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ud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: feeling good abou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th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ick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Star-Spangled Banner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1523880"/>
          <a:ext cx="7650360" cy="46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65036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4"/>
          <p:cNvSpPr/>
          <p:nvPr/>
        </p:nvSpPr>
        <p:spPr>
          <a:xfrm>
            <a:off x="1139760" y="1676520"/>
            <a:ext cx="9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Ly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2860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115520" y="1676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01028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tiquet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06884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06884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106884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106884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106884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51676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556488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404064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708876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19"/>
          <p:cNvSpPr/>
          <p:nvPr/>
        </p:nvSpPr>
        <p:spPr>
          <a:xfrm>
            <a:off x="251676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20"/>
          <p:cNvSpPr/>
          <p:nvPr/>
        </p:nvSpPr>
        <p:spPr>
          <a:xfrm>
            <a:off x="404064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556488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701244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23"/>
          <p:cNvSpPr/>
          <p:nvPr/>
        </p:nvSpPr>
        <p:spPr>
          <a:xfrm>
            <a:off x="251676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24"/>
          <p:cNvSpPr/>
          <p:nvPr/>
        </p:nvSpPr>
        <p:spPr>
          <a:xfrm>
            <a:off x="404064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556488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26"/>
          <p:cNvSpPr/>
          <p:nvPr/>
        </p:nvSpPr>
        <p:spPr>
          <a:xfrm>
            <a:off x="701244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251676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404064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556488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701244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251676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32"/>
          <p:cNvSpPr/>
          <p:nvPr/>
        </p:nvSpPr>
        <p:spPr>
          <a:xfrm>
            <a:off x="404064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33"/>
          <p:cNvSpPr/>
          <p:nvPr/>
        </p:nvSpPr>
        <p:spPr>
          <a:xfrm>
            <a:off x="556488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34"/>
          <p:cNvSpPr/>
          <p:nvPr/>
        </p:nvSpPr>
        <p:spPr>
          <a:xfrm>
            <a:off x="701244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Text Box 47"/>
          <p:cNvGrpSpPr/>
          <p:nvPr/>
        </p:nvGrpSpPr>
        <p:grpSpPr>
          <a:xfrm>
            <a:off x="7364520" y="6297480"/>
            <a:ext cx="1646280" cy="414360"/>
            <a:chOff x="7364520" y="6297480"/>
            <a:chExt cx="1646280" cy="414360"/>
          </a:xfrm>
        </p:grpSpPr>
        <p:pic>
          <p:nvPicPr>
            <p:cNvPr id="176" name="Text Box 47" descr=""/>
            <p:cNvPicPr/>
            <p:nvPr/>
          </p:nvPicPr>
          <p:blipFill>
            <a:blip r:embed="rId28"/>
            <a:stretch/>
          </p:blipFill>
          <p:spPr>
            <a:xfrm>
              <a:off x="7364520" y="6297480"/>
              <a:ext cx="16462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391520" y="6324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Final Jeopar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Text Box 48"/>
          <p:cNvSpPr/>
          <p:nvPr/>
        </p:nvSpPr>
        <p:spPr>
          <a:xfrm>
            <a:off x="5563440" y="16765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328040" y="2666880"/>
            <a:ext cx="654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feeling good abou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thin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44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2209680" y="2514600"/>
            <a:ext cx="5029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: boo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id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133720" y="289548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: evidenc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51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219320" y="312408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wrote the lyrics for the Star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pangled Bann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523880" y="289548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: Francis Scott Ke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58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533520" y="29718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was held captive on a British ship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295280" y="297180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: Dr. William Bean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65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066680" y="27432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went to rescue my friend held captive on a British ship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371600" y="297180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: Francis Scott Ke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72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371600" y="259092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wrote the melody for the Star-Spangled Bann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Question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143000" y="29718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so proudly we hailed 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Bevel 3"/>
          <p:cNvSpPr/>
          <p:nvPr/>
        </p:nvSpPr>
        <p:spPr>
          <a:xfrm>
            <a:off x="533520" y="6019920"/>
            <a:ext cx="1218960" cy="53316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1371600" y="29718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: John Stafford Smit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79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295280" y="28195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sewed the Star-Spangled Bann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609480" y="297180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: Mary Pickerskil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86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Question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090800" y="2590920"/>
            <a:ext cx="708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ring which war was th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r-Spangled Banner writte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Answer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828800" y="297180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the War of 1812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93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Question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38080" y="2743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two countries fighting in the War of 1812 were . .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Answer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457200" y="29718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America and Great Britai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00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Question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990720" y="266688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name of the fort where the battle took place was . .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Answer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834560" y="2971800"/>
            <a:ext cx="555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Fort McHenr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07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Question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914400" y="266688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at Fort McHenry was won by which countr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Answer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295280" y="27432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“at the twilight’s last gleaming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185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188" name="Action Button: Custom 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>
              <a:hlinkClick r:id="rId6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Answer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2517840" y="2971800"/>
            <a:ext cx="42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Americ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14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Question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990720" y="266688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government group made the Star-Spangled Banner ou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ficial national anthe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Answer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2532600" y="2971800"/>
            <a:ext cx="442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Congres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21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Question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417240" y="2590920"/>
            <a:ext cx="8241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ile the Star-Spangled Banner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s being performed, how shoul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veryone present stand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Answer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2133720" y="28954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at atten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28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Question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168920" y="2971800"/>
            <a:ext cx="691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ons in uniform should . .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Answer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2911320" y="2895480"/>
            <a:ext cx="364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salut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35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Question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838080" y="29718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ons wearing hats should . .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Answer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523880" y="29718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remove their ha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42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Question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623880" y="2819520"/>
            <a:ext cx="7800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ring the Star-Spangled Banner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l persons should place the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ght hand over their . .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Question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219320" y="297180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the rocket’s red glare,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Answer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2229480" y="2971800"/>
            <a:ext cx="462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their hear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49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Question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762120" y="266688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ring a performance of th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r-Spangled Banner all persons should remain standing until . .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Answer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609480" y="289548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until the last note of the music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56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Jeopard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762120" y="2438280"/>
            <a:ext cx="7619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 an act of Congress, the Star Spangled-Banner became our official national anthem in the year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MacOS" descr=""/>
          <p:cNvPicPr/>
          <p:nvPr/>
        </p:nvPicPr>
        <p:blipFill>
          <a:blip r:embed="rId1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1832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Jeopardy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680560" y="2895480"/>
            <a:ext cx="346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193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e you next time on . . .</a:t>
            </a:r>
            <a:br>
              <a:rPr sz="4400"/>
            </a:b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Star-Spangled Banner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Answer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04920" y="29718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“the bombs bursting in air,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195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Question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990720" y="29718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ve proof through the night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Answer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066680" y="2743200"/>
            <a:ext cx="716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“that our flag was still there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02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Question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981080" y="289548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 say, can you see,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3:37:33Z</dcterms:created>
  <dc:creator>SCPS</dc:creator>
  <dc:description/>
  <dc:language>en-US</dc:language>
  <cp:lastModifiedBy>Wendy L Bloom</cp:lastModifiedBy>
  <dcterms:modified xsi:type="dcterms:W3CDTF">2010-09-20T14:23:53Z</dcterms:modified>
  <cp:revision>76</cp:revision>
  <dc:subject/>
  <dc:title>Jeopardy</dc:title>
</cp:coreProperties>
</file>